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0A24-2A93-43CC-B7FA-14D60FEFF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44FA-6F49-4D51-B2EC-46F38AF054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2383-7DCB-477A-9D37-1367E97E4D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3DA2-AD20-4BD8-88E0-C817A88631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EF60-B805-4B4F-8C28-DEFA9A9260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2AFD-6233-431A-9104-FFD3094315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FA12-2730-426F-96EC-CD703FD5E9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5AE5-F2FB-4574-8BFB-C33C4C3003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0D94-3B56-4B87-B10C-FCBA885D26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57CD-691F-4B0E-AB21-7314E316C5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BB90-51C8-4240-AEF4-3ECB3FB959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75D4-D7C9-438D-8B2E-98976A2F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FDE-09DA-415D-82A4-4EA049DB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105-D206-45E9-8244-D526C84A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F81-7C06-4C86-B4E7-FBF6070F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5042-7DB9-4A90-B5F5-2EC99053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F9A4-EFC6-4DC5-A347-CF11080C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319C-22FB-4FDD-BD9B-698C4CDB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850A-DA97-4E96-97F2-103EE1D2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0D27-42B9-40D2-BBEC-0DA365E3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75E4-B369-43FF-8613-E23A0DC7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96D5-2C22-4E80-A193-243CEF0F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3FEE-D447-4082-9E13-4763CB67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3446-EC53-4DE2-AC99-A825527A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266D-52D5-4D63-BE81-1A8F53FD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C70F-336F-45B3-A5EF-71550E04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B23D-E576-4744-8D5C-B064C716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FA66-7EA2-4836-9931-04DAC61C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77D-22EF-4F33-AD47-AC399DCC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B65-7A67-43E9-8FBC-BB989C9F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82D6-6E0D-4697-86D3-31EC2EC4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F87-D00B-42E3-96DD-C52DBA95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3EC-2C55-47B1-BA03-9AA06C84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526-6399-4EE9-8C46-E2E04A91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3437-53E8-4904-97F1-C50B4B18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D820-804D-4590-9489-7205F30ACB2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DC36-C37F-4D74-A911-9DFF936FAF2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4978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apted from Dr. Cindi Harr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3969000" cy="1090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3733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f your job is confining, labor intensive, repetitive, unappreciated, and life draining, you should click on the Jobs In Town Website to find a new place of employmen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3886200" y="304920"/>
            <a:ext cx="44197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English word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rgumen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s derived from the Latin verb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rguer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“to make clear.”  Argument is the process for making what we think clear to ourselves and other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—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rusious and Channell- </a:t>
            </a: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The Aims of Argument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gument= claim an author make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aim= what an author wants you to belie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gumen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re supported by eviden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ake place in contex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ave aims to persuad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genr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text/articl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subject/topic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o is/are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writer/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ontex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o is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udienc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purpose/ai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343400" cy="6477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4038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3962520" cy="6132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4197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79200" y="-128520"/>
            <a:ext cx="3986280" cy="1519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genr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text/article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subject/topic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o is/are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writer/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context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o is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audienc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purpose/aim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of the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886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0" y="146160"/>
            <a:ext cx="4054320" cy="939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are the arguments made by this tex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is the main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evidence from the text supports this as the main argumen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3809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itle 1" descr=""/>
          <p:cNvPicPr/>
          <p:nvPr/>
        </p:nvPicPr>
        <p:blipFill>
          <a:blip r:embed="rId1"/>
          <a:stretch/>
        </p:blipFill>
        <p:spPr>
          <a:xfrm>
            <a:off x="-152280" y="-158760"/>
            <a:ext cx="4163760" cy="1092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3962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f your job can be done by a machine, it may not be the job for you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f nobody notices you doing your job, it might not be the right job for you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s an advertisement for a job search company, it suggests that you use their service to find a new job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191120" cy="61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3:26:36Z</dcterms:created>
  <dc:creator>nvasquez</dc:creator>
  <dc:description/>
  <dc:language>en-US</dc:language>
  <cp:lastModifiedBy>Nvasquez</cp:lastModifiedBy>
  <dcterms:modified xsi:type="dcterms:W3CDTF">2011-02-14T22:15:07Z</dcterms:modified>
  <cp:revision>8</cp:revision>
  <dc:subject/>
  <dc:title>Audience, Purpose, &amp; Genre</dc:title>
</cp:coreProperties>
</file>